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7E7E-BC08-411A-AEE1-0804F0E66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3C82-7297-49DD-BF5D-D25C45A0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D5219F-9DB1-4DD5-80A7-A85573CD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A5BD8B-6C3C-4310-9529-D537EB65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838B6B-48EC-4308-A9CB-3EC89027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D2F866-725E-4C42-B0AF-B00854E6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E0973D-26ED-4952-91DD-34C6180F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F2FB89-EB3F-4947-86CC-906F4435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2B4A9E-C602-4E36-8D95-A7000F46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EA0232-B92D-424B-99C5-8532C8756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4829A4-B64A-4B78-BF02-40B4EE822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12069D-70E4-4671-8354-EF492910B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77FC-FAAD-4592-A05E-D0513EF4F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DF8058-201C-4C0E-A9D4-098532EB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D0678F-A2A0-47BB-AB6A-FFDEAC4B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5010C8-A423-483C-BA35-89B92EE5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D9DDAE-2ECC-4A26-878F-F5636A9B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D84A00-6329-4244-846F-EDD31EDA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D253EE-8C67-47AF-ABA8-63A8396B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66D1C5-7E1A-46C6-ABE3-C1AD7219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BA9A19-6B96-4F4C-9681-C7AD2CE3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E4E1E1-0556-4B88-9E1D-1FEAC518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E3D241-1C11-4956-B65F-2680C7151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E4A7-631E-4E9E-9D63-CD46C202F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176B93-5D46-4B76-932C-6F6711CA3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CC0651-B39B-44F5-BA9E-44C9EA9FF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DD89A-8563-4316-B380-4FFD0FE5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11EC9-FA7C-4BEF-BD20-F13B0A12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E65900-7B50-40E9-9B5C-15BC5432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42B268-26A3-4DD1-994D-ED9939B8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CA978C-14E7-4260-9DAA-2BE98149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9EAD54-2FC9-4164-8BE8-93983C25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70A73-EC67-4199-A2A7-845D8C0D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094B0-042F-4580-802F-936790EB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6FFF-EE68-4B88-B145-E230C5AF1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7F70B-3F8A-43FE-BD67-6121D1FB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CD92E3-3EFA-4A5B-A743-2B406896B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E438E-7DD1-4A93-B027-420DD3957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3F028A-3629-4790-B56D-C2D3A6018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0009E2-A48F-432C-9C33-7EAA4333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1CD6D4-E17E-4C8F-9CA6-F8F60AD8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C6335E-7925-4DED-A7B1-69EBC490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92AC5D-0914-40D4-B263-0088C64B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8946D3-CF56-40E4-9011-806CA4BD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ADD547-5DB5-47F4-A1EC-06607B0F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4F68-A598-4EE5-A3E0-99D9440A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F29CCB-EEE2-4B06-8C0D-3F515055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B179D5-3481-4714-8F61-BD1C3DE3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2E09FD-45AF-4E03-8502-4610279A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1F9325-5C2A-4B49-8E91-578F85212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FC3DC6-3A41-4FD1-9B3C-6036A3517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3AB6F8-C701-4D34-B77E-BC42AF5A9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395621-0171-45AD-9DA0-B7631E88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4B24FF-2019-42CC-8584-FED537E2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5DD263-E480-4370-8256-58F50E54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D52684-E80F-4C11-94B0-78151764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A051-EDB3-439C-BB82-4987312B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A5DD36-72C8-498F-94A7-F0EAF458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81BB8B-7FB7-4626-82E3-0E13AEFC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E1BA3E-681E-4283-A571-FB57D114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49F20B-076B-41B3-96E9-2EF8788F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D11382-94A6-49DD-89E1-FAB1881E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4F0925-9D0B-40E5-A96B-2EF0417BE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F13A45-F1F5-4122-9F8A-A6CD0707E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CE1129-D6E4-4AAE-AB0F-E2F046557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B6578D-337D-447C-8156-8833B073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DE0F75-23AD-4EE7-AD72-74C8D540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2E08-3087-4454-828F-56860691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357AD5-1E8E-4149-9A36-8196B81C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9F2137-4229-452F-8BF7-A475B72C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89FB08-8A85-4D42-8B8E-DE6315E9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0662B0-3CB1-4A35-A5A9-3A9D24BA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E8A5E7-19B3-4BD4-82E3-2A415B7A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40D4EB-BBAD-4677-BFF1-32CCAD01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219D14-2FD0-4C18-AA70-2A4C02CE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8760BD-E9B3-4D00-8508-9D3F02E38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DC4607-6FF6-4C33-9FE6-7283C30E7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77A6F0-D10B-444F-9247-13A38F98E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8415-A931-4B5E-B829-4037689E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8DB9F8-608D-4ECB-8125-8999ACF8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15D934-0753-413C-98FB-A1275A1C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87E230-29D9-46B3-9E7B-9D6309E1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63020C-9834-415C-B12A-AF0DCB39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384996-6292-40D5-975E-F5C7B3EE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FCEEE7-0B85-465F-9C8C-D9D46BB7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A79BC2-A686-4013-8CFF-EE9AE24C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2A194E-A839-493F-906A-A0539787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540074-F51C-449F-A3FC-F4009E0B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930E0C-06D4-49EF-9161-6F8A2A1C8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5733-05CF-4CA2-BCEB-827E310C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9A8DE9-22C6-4D21-84AB-5EDA1CC6D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45EEBC-3D60-4EF9-B4F5-7ECE0C218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EA47E7-C175-488E-9E9B-4D0DA533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8F3FEB-2E98-45B5-BB18-1CC97D11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6872C4-B107-4BDA-8CE4-87F9D8CD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585A68-58E0-410E-8CE1-458CD0A2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166680-EA63-4E50-8ED5-90A5480B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1BF3B1-25F2-4799-A98E-6D392E1B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A104C7-3E8F-426B-BE8C-84901B33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24CF20-02BC-4C5D-91F3-80633252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666A5-3D0B-4891-BE07-A87EC078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FB1076-C4A6-4A34-8087-34D1DCDE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A9488C-4DC1-4BF4-841F-80699B11A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3D82E4-2CD5-4396-BB0F-029519346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B1649B-3DAE-4D5F-8A3C-4FED890FE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10EEF2-C685-4FFC-8B5E-081BD7A2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F48356-A710-432E-A682-074D4ADA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FBDC64-BF93-46CE-B9D3-BF9F464D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A19D57-F5F9-4093-BE5F-009E6D7D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8F1A12-DC22-4492-9834-2E164638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08BB39-1531-4989-A332-9248A339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42B7-F134-47F7-BD50-9D50562A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8AC2-5BE5-49A3-B304-9DE1BA08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D02755-DBB7-4CBE-9AD4-14B6ECD8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AFF865-CFC3-4965-8A45-27883E5A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311310-C841-45E7-9688-C227450A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ED0748-7A35-499B-B458-2855CCC8F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BE9FA5-3653-4964-8C9F-0F58F680C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8C42F7-E103-4DBA-B67D-EF11C334F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E77DFA-69DB-4F24-A72B-A812A850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A35603-4B92-495A-9909-2998CD33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35DD79-49BC-4727-905F-9B04E2F0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FDE9A8-BEE8-4F83-BC3F-17E57410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D5187-A9EA-4087-9F67-E289A173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2905EB-F2CE-4D64-B7EE-FA162BEB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92FDC4-47C7-4BAF-A423-124A3968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9FF23F-4A5E-4AE3-B2D1-0892AFED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D98721-9F35-4DF4-9850-0BEA9F24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0C3761-5739-4BFC-9FF8-2D5891B3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05FCDC-6D7F-4E80-9B60-95824A3D4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513986-955C-4762-8A85-A0F5E89E6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21B6B0-ECE8-43F9-A055-6A02D4691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AF81D2-664F-4AEA-83EF-2A92EB59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16D0F3-F282-4940-8367-E2C003AE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5815-B2FB-409F-A97F-075F1C34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068C23-7434-498C-82B3-47E963C1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DC0809-0070-4C98-B67D-72F79822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6C327D-4080-4812-87BE-626F5801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8B1D2F-C83D-4C5C-BCAE-040A6E06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F3069F-AE24-49B7-9C7A-B5BDB936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5AB81D-270C-42B4-A5F8-850B74A0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B6D669-DE32-4F2C-9EB2-026CA330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B12242-1849-4B48-BB2E-3A5A696D0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9C2004-4D1E-4EEA-9E99-7DF4988AC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4884EC-A5AC-4FC1-9130-BBB3DA156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D9FA-E6B5-4AF4-A93C-FF29C5335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19436F-B7DA-43C4-B7AC-2E8DE60C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62F605-9D69-41C4-8FD8-7EF76B64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ABE618-B145-454F-885D-AEF553ED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7890B2-0D7D-43B3-B21A-662A4271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B3C17D-4EA0-49E5-B913-D7DD68A7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294515-A871-4684-A0A5-14302909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3B07DF-63EC-4F69-A4A4-CE55B5D1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DEF50A-AA5E-414E-A3AF-423BD81C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514853-5C1F-44B2-93EF-E9B826D6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F47C22-DB2F-4015-8A4A-553D2A3DB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CDB5-27ED-459D-A88E-DEC1CEE47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3D9BA8-7BC5-4A62-824D-CF67114F6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86E1FF-0F3D-4013-9DDF-7B30ACC9E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30A80F-60DA-408C-B197-C0E5B677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CDDC5F-9025-4EF1-B7BD-E40F7BBE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111758-C16A-42D4-B684-A88B8123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31FD92-16C8-44C5-9993-58A224FD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7F0699-4A68-47DD-ADB7-0292BFD5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8D057C-69CE-44A3-8CB1-C891DD06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3091C4-E3D4-446E-9D4E-05F79C18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ED94B2-9BD5-48F6-9B50-34BCC719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EA33F-1269-4503-9751-F0A7FFCA2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472F00-4F13-4DED-8782-FF2647E5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85E5E3-60B0-4479-AA2D-72A493662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5F1294-437E-4E55-BE53-C6274AC92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308FC-4ACF-4BA1-9867-EAC5191B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844C8-B68B-48E1-90F7-AAB5FB68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22385-6FAB-4DE3-B093-D49A93C1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B84C5-5B37-49E3-810F-A3ED501F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25E8-B0AE-4023-9D88-5DA31806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D6A8A-B65C-4B66-8B04-56E0A9F6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E27C4-D75C-43EA-858F-5E3B0917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AE496-24A4-4414-84AF-958C8567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D1718-5BEA-4B69-AEE0-62297B44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FA2EC-92B9-4DEF-948C-244E7BC2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ECACC-16C8-4F1D-9F5E-4BB979835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D0CE9-EB24-4DC7-84E8-11E3FA4F9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8C4AD-B3F9-42D4-BCBD-2307DCF3E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65B4F-3F89-4DDF-9418-C8104AFF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F3CC0-3094-4DA4-B831-1167A1B5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197B-E035-4530-86E1-410CD60A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8A6B5-1DC1-4C41-8CD6-83A0AE34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6F175-02A4-412A-A543-EB9985BA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CF567-5E22-4544-8CEB-E538DC05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40DB9-CC0D-493F-95EE-09DA9EF9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60F25-1778-42DE-9B52-B67CCBD2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328A4-38F0-4B04-8F5B-E50E8233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09341-A4A2-44C3-8456-B64D8A3B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1E740-F618-4866-B841-BDF5A9C96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0B9E2-F8D3-4B14-8FAF-D535B6471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766CA-66EB-4647-AE6B-E8997B877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5204-3AD5-45A7-983A-3074F204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6E430-0E9F-4F81-9899-764700A7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69DF5-6BEA-4637-873B-2EB8CFF0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15CED-2D23-435C-98BC-408D07CC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773DE-6A64-401A-B310-566319D7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2EF3E-25CD-41C7-A846-862CD3F3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1BD4D-695D-40BD-BAA4-D83D7ECB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806FF-A755-4628-ADD0-CC414C2F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9F334-4849-4B42-AC2C-7BF3A3AE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85FC6-6777-478F-84DF-AB7FC06D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DEAF4-0415-45C6-AFE1-AF8DEAB1D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D553-2224-4A12-B326-8F4120D2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C1395-3951-41E5-92B6-93FB8CC21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C2DEC-1501-47CB-BD6F-F8CF48EA3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DE0F6-1BC7-4699-A0B5-F4BE1B10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3F040-D6B6-4BCB-84DF-6F3D04D8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721E9-1E7B-4DCE-86BC-5A2E7706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71338-E813-433A-B370-67A40600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84ABC-64B1-4D31-9673-7D296A09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DC47E-F4B1-4446-A95F-4E8B6F41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061E3-D784-4309-BF2B-3E2F7128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71E84-22E3-48B0-8572-69AD3D07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5985-2CE0-45D9-B5CE-70601E45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E4079-7FB5-4972-8DD0-0991F76D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E26A8-517E-4472-BFE8-805C42197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AC9BF-081C-4B06-9371-CEA8DE949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7E04C-0824-495C-8AAB-A7741702E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6A8B5-8E64-495D-AEBF-B1E279A9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D00B8-0525-4DC6-9B19-0802361E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CE939-9DFB-472E-B4B1-11B69B47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9B972-1DBA-4169-8304-94DABF74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602FC-6B37-489A-AA68-84347D4F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3CC7D-1B70-4272-BC6B-DF2024AC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BE8E-44AF-4BD5-A66E-56AF07AA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CC2B3-BEF6-4A3F-A0E0-928BE00D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E5391-DCA2-42D2-B15C-C591A35F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24873-C002-424E-9964-13F8ED10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65E38-BA37-481E-9318-73386491A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EABAE-3C98-4A1B-99AC-111A592F4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AA6B3-36C5-4080-B9C3-F93B241B8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1D6D5-B649-4A9C-8FDD-F1F7C40D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53FC9-4CDF-4CAD-AA6C-A4C34F27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A581B-1D16-4640-AEFB-6C217772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C1C86-6F54-49E0-8C31-24FBCEB5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43B1-F694-4568-A539-EC8E6B6B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479B8-2402-4C73-AE9F-57E3C798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AA727-BDE7-4419-BD03-488C34BA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815D0-77F8-4422-9BF0-0D37C229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BF42F-8C56-4208-BFAD-6BB2A903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3216E-26E3-4B76-ACFC-514EBE33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3ECF9-4F22-42ED-AFFC-420F661B4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0F01C-219D-46B9-A1B9-1C6C1FCC2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786BDA-EA4C-4A9D-BAF0-11F79B3F1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C3B3B8-8AA7-4FAE-88B8-DD7BF124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117BAE-A956-4649-8BEE-6C828CA2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90AC-4CF1-4B4E-94FC-50B6609FF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E45F-9243-4D67-B608-0A94BC6E01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876C-3275-4B7C-A8BC-1CF23AAECD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128E-AF79-4099-B4CE-AAB2A74828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08DC-DFB6-42E4-A6B5-D7AAC5F656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2253-DD74-4FAA-836B-CBF64D8C51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BC8A-25ED-4C6F-AC01-3A40587FA7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29A3-2C95-4BF8-B21D-AB8CF5CB02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826F-2469-432B-90D0-1E785E4379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4618-1B7A-40C2-A1B3-31B27F1808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C22A-09BA-4F40-A333-873AC0BD42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A797-266E-48B1-A8E8-BAA38377F8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3595-07E0-4C2E-A568-B0E1BBF435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9EB1-6710-4F42-90FD-6691FB8704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F008-800B-4DCB-8310-E23E5DD89F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B440-8C7F-4AFE-8125-0E65C92B2E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9CB9-76D3-479F-AAF2-DBD1F12CE8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3F1B-EDDD-4624-8442-C50203C094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7775-DD3E-43B9-85E7-CE4FF644F5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A4AA-92FC-4B14-9546-E51F0A328F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662D-0910-4645-A93D-5881899BAB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D286-0CA3-4E33-A273-99195DF309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78FA-2FD4-4252-86B5-4BDD1BE3AC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8277-AE42-4605-B93E-ED649EDF7F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196B-17DD-4CAC-9350-822765F43D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DEF4-19C5-4DE7-8518-73A87D9C21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0EFB-7B52-450D-95BF-DB825379B9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9DC3-733D-48CF-9CA6-9EFC4DFAF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6BC7-31DE-4219-BD6B-EDDAA39D01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6B8C-BBEA-4077-AE7D-BCEDAD5C01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1AB5-BC98-46A6-8763-C7AE0E2CA2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267C-FA45-4A9D-8722-B3115EC0F9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0853-3638-4E70-93B9-A4CD8158CD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C5D2-7C56-4FB4-9BF7-9FC65F00C6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EA4C-C98E-4655-AC70-2A4C808C03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B90A-9E7E-448E-931C-65BFA27420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7E078-6E43-451F-9C63-0F619FC9A4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C633-B9BB-4729-9D74-6F047D1803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4534-38F5-4F67-86A4-1271F00462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0BFB-426F-4840-9EBC-5813624855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Picture 1" descr=""/>
          <p:cNvPicPr/>
          <p:nvPr/>
        </p:nvPicPr>
        <p:blipFill>
          <a:blip r:embed="rId1"/>
          <a:stretch/>
        </p:blipFill>
        <p:spPr>
          <a:xfrm>
            <a:off x="1500120" y="3214800"/>
            <a:ext cx="566280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Picture 1" descr=""/>
          <p:cNvPicPr/>
          <p:nvPr/>
        </p:nvPicPr>
        <p:blipFill>
          <a:blip r:embed="rId1"/>
          <a:stretch/>
        </p:blipFill>
        <p:spPr>
          <a:xfrm>
            <a:off x="414360" y="1004760"/>
            <a:ext cx="8315280" cy="56390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2" descr=""/>
          <p:cNvPicPr/>
          <p:nvPr/>
        </p:nvPicPr>
        <p:blipFill>
          <a:blip r:embed="rId2"/>
          <a:stretch/>
        </p:blipFill>
        <p:spPr>
          <a:xfrm>
            <a:off x="7358040" y="928800"/>
            <a:ext cx="1228680" cy="5047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4" descr=""/>
          <p:cNvPicPr/>
          <p:nvPr/>
        </p:nvPicPr>
        <p:blipFill>
          <a:blip r:embed="rId3"/>
          <a:stretch/>
        </p:blipFill>
        <p:spPr>
          <a:xfrm>
            <a:off x="3714840" y="2428920"/>
            <a:ext cx="242640" cy="2872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4" descr=""/>
          <p:cNvPicPr/>
          <p:nvPr/>
        </p:nvPicPr>
        <p:blipFill>
          <a:blip r:embed="rId4"/>
          <a:stretch/>
        </p:blipFill>
        <p:spPr>
          <a:xfrm>
            <a:off x="3197160" y="2903400"/>
            <a:ext cx="1071720" cy="2876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4" descr=""/>
          <p:cNvPicPr/>
          <p:nvPr/>
        </p:nvPicPr>
        <p:blipFill>
          <a:blip r:embed="rId5"/>
          <a:stretch/>
        </p:blipFill>
        <p:spPr>
          <a:xfrm>
            <a:off x="3143160" y="3301920"/>
            <a:ext cx="1214640" cy="2872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4" descr=""/>
          <p:cNvPicPr/>
          <p:nvPr/>
        </p:nvPicPr>
        <p:blipFill>
          <a:blip r:embed="rId6"/>
          <a:stretch/>
        </p:blipFill>
        <p:spPr>
          <a:xfrm>
            <a:off x="3946680" y="3782880"/>
            <a:ext cx="241200" cy="2890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4" descr=""/>
          <p:cNvPicPr/>
          <p:nvPr/>
        </p:nvPicPr>
        <p:blipFill>
          <a:blip r:embed="rId7"/>
          <a:stretch/>
        </p:blipFill>
        <p:spPr>
          <a:xfrm>
            <a:off x="3143160" y="4257720"/>
            <a:ext cx="1071720" cy="2872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4" descr=""/>
          <p:cNvPicPr/>
          <p:nvPr/>
        </p:nvPicPr>
        <p:blipFill>
          <a:blip r:embed="rId8"/>
          <a:stretch/>
        </p:blipFill>
        <p:spPr>
          <a:xfrm>
            <a:off x="3071880" y="4656240"/>
            <a:ext cx="1214280" cy="2872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4" descr=""/>
          <p:cNvPicPr/>
          <p:nvPr/>
        </p:nvPicPr>
        <p:blipFill>
          <a:blip r:embed="rId9"/>
          <a:stretch/>
        </p:blipFill>
        <p:spPr>
          <a:xfrm>
            <a:off x="6697800" y="2432160"/>
            <a:ext cx="242640" cy="2872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4" descr=""/>
          <p:cNvPicPr/>
          <p:nvPr/>
        </p:nvPicPr>
        <p:blipFill>
          <a:blip r:embed="rId10"/>
          <a:stretch/>
        </p:blipFill>
        <p:spPr>
          <a:xfrm>
            <a:off x="6180120" y="2905200"/>
            <a:ext cx="1071720" cy="2872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4" descr=""/>
          <p:cNvPicPr/>
          <p:nvPr/>
        </p:nvPicPr>
        <p:blipFill>
          <a:blip r:embed="rId11"/>
          <a:stretch/>
        </p:blipFill>
        <p:spPr>
          <a:xfrm>
            <a:off x="6126120" y="3303720"/>
            <a:ext cx="1214640" cy="2872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4" descr=""/>
          <p:cNvPicPr/>
          <p:nvPr/>
        </p:nvPicPr>
        <p:blipFill>
          <a:blip r:embed="rId12"/>
          <a:stretch/>
        </p:blipFill>
        <p:spPr>
          <a:xfrm>
            <a:off x="6929280" y="3786120"/>
            <a:ext cx="285840" cy="2872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4" descr=""/>
          <p:cNvPicPr/>
          <p:nvPr/>
        </p:nvPicPr>
        <p:blipFill>
          <a:blip r:embed="rId13"/>
          <a:stretch/>
        </p:blipFill>
        <p:spPr>
          <a:xfrm>
            <a:off x="6126120" y="4260960"/>
            <a:ext cx="1071720" cy="2872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4" descr=""/>
          <p:cNvPicPr/>
          <p:nvPr/>
        </p:nvPicPr>
        <p:blipFill>
          <a:blip r:embed="rId14"/>
          <a:stretch/>
        </p:blipFill>
        <p:spPr>
          <a:xfrm>
            <a:off x="6054840" y="4659480"/>
            <a:ext cx="1374840" cy="2872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4" descr=""/>
          <p:cNvPicPr/>
          <p:nvPr/>
        </p:nvPicPr>
        <p:blipFill>
          <a:blip r:embed="rId15"/>
          <a:stretch/>
        </p:blipFill>
        <p:spPr>
          <a:xfrm>
            <a:off x="2222640" y="5840280"/>
            <a:ext cx="428400" cy="2876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4" descr=""/>
          <p:cNvPicPr/>
          <p:nvPr/>
        </p:nvPicPr>
        <p:blipFill>
          <a:blip r:embed="rId16"/>
          <a:stretch/>
        </p:blipFill>
        <p:spPr>
          <a:xfrm>
            <a:off x="2465280" y="6240600"/>
            <a:ext cx="428760" cy="2872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4" descr=""/>
          <p:cNvPicPr/>
          <p:nvPr/>
        </p:nvPicPr>
        <p:blipFill>
          <a:blip r:embed="rId17"/>
          <a:stretch/>
        </p:blipFill>
        <p:spPr>
          <a:xfrm>
            <a:off x="5072040" y="5823000"/>
            <a:ext cx="428760" cy="2872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4" descr=""/>
          <p:cNvPicPr/>
          <p:nvPr/>
        </p:nvPicPr>
        <p:blipFill>
          <a:blip r:embed="rId18"/>
          <a:stretch/>
        </p:blipFill>
        <p:spPr>
          <a:xfrm>
            <a:off x="5311800" y="6215040"/>
            <a:ext cx="428760" cy="2872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4" descr=""/>
          <p:cNvPicPr/>
          <p:nvPr/>
        </p:nvPicPr>
        <p:blipFill>
          <a:blip r:embed="rId19"/>
          <a:stretch/>
        </p:blipFill>
        <p:spPr>
          <a:xfrm>
            <a:off x="7840800" y="5823000"/>
            <a:ext cx="428400" cy="2872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4" descr=""/>
          <p:cNvPicPr/>
          <p:nvPr/>
        </p:nvPicPr>
        <p:blipFill>
          <a:blip r:embed="rId20"/>
          <a:stretch/>
        </p:blipFill>
        <p:spPr>
          <a:xfrm>
            <a:off x="8064360" y="6197760"/>
            <a:ext cx="42876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Picture 1" descr=""/>
          <p:cNvPicPr/>
          <p:nvPr/>
        </p:nvPicPr>
        <p:blipFill>
          <a:blip r:embed="rId1"/>
          <a:srcRect l="0" t="0" r="0" b="35145"/>
          <a:stretch/>
        </p:blipFill>
        <p:spPr>
          <a:xfrm>
            <a:off x="480960" y="1523880"/>
            <a:ext cx="8182080" cy="426240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2" descr=""/>
          <p:cNvPicPr/>
          <p:nvPr/>
        </p:nvPicPr>
        <p:blipFill>
          <a:blip r:embed="rId2"/>
          <a:stretch/>
        </p:blipFill>
        <p:spPr>
          <a:xfrm>
            <a:off x="7715160" y="4071960"/>
            <a:ext cx="1071720" cy="196200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4" descr=""/>
          <p:cNvPicPr/>
          <p:nvPr/>
        </p:nvPicPr>
        <p:blipFill>
          <a:blip r:embed="rId3"/>
          <a:stretch/>
        </p:blipFill>
        <p:spPr>
          <a:xfrm>
            <a:off x="2311560" y="2017800"/>
            <a:ext cx="428400" cy="2872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4" descr=""/>
          <p:cNvPicPr/>
          <p:nvPr/>
        </p:nvPicPr>
        <p:blipFill>
          <a:blip r:embed="rId4"/>
          <a:stretch/>
        </p:blipFill>
        <p:spPr>
          <a:xfrm>
            <a:off x="5214960" y="2017800"/>
            <a:ext cx="428760" cy="2872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4" descr=""/>
          <p:cNvPicPr/>
          <p:nvPr/>
        </p:nvPicPr>
        <p:blipFill>
          <a:blip r:embed="rId5"/>
          <a:stretch/>
        </p:blipFill>
        <p:spPr>
          <a:xfrm>
            <a:off x="8118360" y="2017800"/>
            <a:ext cx="428760" cy="2872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4" descr=""/>
          <p:cNvPicPr/>
          <p:nvPr/>
        </p:nvPicPr>
        <p:blipFill>
          <a:blip r:embed="rId6"/>
          <a:stretch/>
        </p:blipFill>
        <p:spPr>
          <a:xfrm>
            <a:off x="2571840" y="2428920"/>
            <a:ext cx="428400" cy="2872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4" descr=""/>
          <p:cNvPicPr/>
          <p:nvPr/>
        </p:nvPicPr>
        <p:blipFill>
          <a:blip r:embed="rId7"/>
          <a:stretch/>
        </p:blipFill>
        <p:spPr>
          <a:xfrm>
            <a:off x="5429160" y="2428920"/>
            <a:ext cx="428760" cy="2872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4" descr=""/>
          <p:cNvPicPr/>
          <p:nvPr/>
        </p:nvPicPr>
        <p:blipFill>
          <a:blip r:embed="rId8"/>
          <a:stretch/>
        </p:blipFill>
        <p:spPr>
          <a:xfrm>
            <a:off x="8358120" y="2427120"/>
            <a:ext cx="428760" cy="2876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4" descr=""/>
          <p:cNvPicPr/>
          <p:nvPr/>
        </p:nvPicPr>
        <p:blipFill>
          <a:blip r:embed="rId9"/>
          <a:stretch/>
        </p:blipFill>
        <p:spPr>
          <a:xfrm>
            <a:off x="5000760" y="4572000"/>
            <a:ext cx="25002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Picture 1" descr=""/>
          <p:cNvPicPr/>
          <p:nvPr/>
        </p:nvPicPr>
        <p:blipFill>
          <a:blip r:embed="rId1"/>
          <a:stretch/>
        </p:blipFill>
        <p:spPr>
          <a:xfrm>
            <a:off x="914400" y="2300400"/>
            <a:ext cx="7315200" cy="225720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4" descr=""/>
          <p:cNvPicPr/>
          <p:nvPr/>
        </p:nvPicPr>
        <p:blipFill>
          <a:blip r:embed="rId2"/>
          <a:stretch/>
        </p:blipFill>
        <p:spPr>
          <a:xfrm>
            <a:off x="2743200" y="2928960"/>
            <a:ext cx="428760" cy="2872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4" descr=""/>
          <p:cNvPicPr/>
          <p:nvPr/>
        </p:nvPicPr>
        <p:blipFill>
          <a:blip r:embed="rId3"/>
          <a:stretch/>
        </p:blipFill>
        <p:spPr>
          <a:xfrm>
            <a:off x="2982960" y="3303720"/>
            <a:ext cx="372960" cy="2872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4" descr=""/>
          <p:cNvPicPr/>
          <p:nvPr/>
        </p:nvPicPr>
        <p:blipFill>
          <a:blip r:embed="rId4"/>
          <a:stretch/>
        </p:blipFill>
        <p:spPr>
          <a:xfrm>
            <a:off x="4903920" y="2946240"/>
            <a:ext cx="428400" cy="2876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4" descr=""/>
          <p:cNvPicPr/>
          <p:nvPr/>
        </p:nvPicPr>
        <p:blipFill>
          <a:blip r:embed="rId5"/>
          <a:stretch/>
        </p:blipFill>
        <p:spPr>
          <a:xfrm>
            <a:off x="5143680" y="3321000"/>
            <a:ext cx="372960" cy="28728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4" descr=""/>
          <p:cNvPicPr/>
          <p:nvPr/>
        </p:nvPicPr>
        <p:blipFill>
          <a:blip r:embed="rId6"/>
          <a:stretch/>
        </p:blipFill>
        <p:spPr>
          <a:xfrm>
            <a:off x="7377120" y="2965320"/>
            <a:ext cx="428760" cy="2876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4" descr=""/>
          <p:cNvPicPr/>
          <p:nvPr/>
        </p:nvPicPr>
        <p:blipFill>
          <a:blip r:embed="rId7"/>
          <a:stretch/>
        </p:blipFill>
        <p:spPr>
          <a:xfrm>
            <a:off x="7618320" y="3340080"/>
            <a:ext cx="371520" cy="28728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4" descr=""/>
          <p:cNvPicPr/>
          <p:nvPr/>
        </p:nvPicPr>
        <p:blipFill>
          <a:blip r:embed="rId8"/>
          <a:stretch/>
        </p:blipFill>
        <p:spPr>
          <a:xfrm>
            <a:off x="1357200" y="4286160"/>
            <a:ext cx="37332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Picture 1" descr=""/>
          <p:cNvPicPr/>
          <p:nvPr/>
        </p:nvPicPr>
        <p:blipFill>
          <a:blip r:embed="rId1"/>
          <a:stretch/>
        </p:blipFill>
        <p:spPr>
          <a:xfrm>
            <a:off x="3848040" y="1905120"/>
            <a:ext cx="1447920" cy="42386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4" descr=""/>
          <p:cNvPicPr/>
          <p:nvPr/>
        </p:nvPicPr>
        <p:blipFill>
          <a:blip r:embed="rId2"/>
          <a:stretch/>
        </p:blipFill>
        <p:spPr>
          <a:xfrm>
            <a:off x="4876920" y="273996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4" descr=""/>
          <p:cNvPicPr/>
          <p:nvPr/>
        </p:nvPicPr>
        <p:blipFill>
          <a:blip r:embed="rId3"/>
          <a:stretch/>
        </p:blipFill>
        <p:spPr>
          <a:xfrm>
            <a:off x="4978440" y="313056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4" descr=""/>
          <p:cNvPicPr/>
          <p:nvPr/>
        </p:nvPicPr>
        <p:blipFill>
          <a:blip r:embed="rId4"/>
          <a:stretch/>
        </p:blipFill>
        <p:spPr>
          <a:xfrm>
            <a:off x="4978440" y="354168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4" descr=""/>
          <p:cNvPicPr/>
          <p:nvPr/>
        </p:nvPicPr>
        <p:blipFill>
          <a:blip r:embed="rId5"/>
          <a:stretch/>
        </p:blipFill>
        <p:spPr>
          <a:xfrm>
            <a:off x="4978440" y="3970440"/>
            <a:ext cx="379440" cy="3236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4" descr=""/>
          <p:cNvPicPr/>
          <p:nvPr/>
        </p:nvPicPr>
        <p:blipFill>
          <a:blip r:embed="rId6"/>
          <a:stretch/>
        </p:blipFill>
        <p:spPr>
          <a:xfrm>
            <a:off x="4871880" y="438300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4" descr=""/>
          <p:cNvPicPr/>
          <p:nvPr/>
        </p:nvPicPr>
        <p:blipFill>
          <a:blip r:embed="rId7"/>
          <a:stretch/>
        </p:blipFill>
        <p:spPr>
          <a:xfrm>
            <a:off x="4857840" y="4811760"/>
            <a:ext cx="379440" cy="3236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4" descr=""/>
          <p:cNvPicPr/>
          <p:nvPr/>
        </p:nvPicPr>
        <p:blipFill>
          <a:blip r:embed="rId8"/>
          <a:stretch/>
        </p:blipFill>
        <p:spPr>
          <a:xfrm>
            <a:off x="4978440" y="518472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4" descr=""/>
          <p:cNvPicPr/>
          <p:nvPr/>
        </p:nvPicPr>
        <p:blipFill>
          <a:blip r:embed="rId9"/>
          <a:stretch/>
        </p:blipFill>
        <p:spPr>
          <a:xfrm>
            <a:off x="4978440" y="5613480"/>
            <a:ext cx="37944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7:19:54Z</dcterms:modified>
  <cp:revision>4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